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28DB94-D6EA-4F35-8FF4-B889804579D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EC4A5A-99D6-4199-B872-23C1EBBCE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D3ECF7-07A3-4F52-A064-73CC20F3F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64B4F7-450B-4B0F-B014-632C9430EDC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F6BBF0-34CF-4DC6-BF7C-4541CA139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49A252-96A8-4D3E-A878-AB5AC33F6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2CD1B4-1D74-4ABE-8205-2F69B16E3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275F0E-EF98-419F-B97F-300923025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81B49B-3691-4007-A7FD-E9B817D27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7A1413-DFFF-4AA8-99D9-48E9BF353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BD2C3E-EDB6-4A12-A450-5FFB07A5E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E23CDF-1809-42C3-9155-078D99B84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6EE0B-19FD-40E3-81C6-27FE0826D373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26560" y="2924280"/>
            <a:ext cx="7993080" cy="122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Verdana"/>
                <a:ea typeface="宋体"/>
              </a:rPr>
              <a:t>第三节   日常生活活动能力评定</a:t>
            </a:r>
            <a:endParaRPr b="0" lang="en-US" sz="40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3059280" y="5516280"/>
            <a:ext cx="518472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章  稼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9280" y="980640"/>
            <a:ext cx="823140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0000"/>
              </a:solidFill>
              <a:latin typeface="Verdana"/>
              <a:ea typeface="宋体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79280" y="2492280"/>
            <a:ext cx="8755200" cy="18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、基本概念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二、评定内容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三、评定方法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000" y="1267920"/>
            <a:ext cx="807732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日常生活活动（</a:t>
            </a:r>
            <a:r>
              <a:rPr b="1" lang="en-US" sz="3200" spc="-1" strike="noStrike">
                <a:solidFill>
                  <a:srgbClr val="ff0000"/>
                </a:solidFill>
                <a:latin typeface="Verdana"/>
                <a:ea typeface="宋体"/>
              </a:rPr>
              <a:t>ADL</a:t>
            </a: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24000" y="2491920"/>
            <a:ext cx="8610480" cy="25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ADL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是指人们为了维持生存以及适应生存环境而每天必须反复进行的、最基本的、最具有共同性的活动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躯体的或基本的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ADL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复杂性或工具性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ADL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11280" y="1341000"/>
            <a:ext cx="807696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  <a:ea typeface="宋体"/>
              </a:rPr>
              <a:t>ADL</a:t>
            </a: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主要内容</a:t>
            </a: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50920" y="2276640"/>
            <a:ext cx="8642160" cy="35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运动方面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自理方面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交流方面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家务劳动方面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娱乐活动方面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4360" y="1197000"/>
            <a:ext cx="80769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  <a:ea typeface="宋体"/>
              </a:rPr>
              <a:t>ADL</a:t>
            </a: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评定方法</a:t>
            </a: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2133360"/>
            <a:ext cx="861048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Barthel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指数评定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包括大便控制、小便控制、修饰、用厕、进食、转移、步行、穿衣、上楼梯、洗澡，共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项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根据是否需要帮助及其帮助程度分为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5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分四个等级，总分为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00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分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9280" y="836640"/>
            <a:ext cx="807732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  <a:ea typeface="宋体"/>
              </a:rPr>
              <a:t>Barthel</a:t>
            </a: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指数评分标准</a:t>
            </a: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304920" y="1728720"/>
          <a:ext cx="8610480" cy="4481640"/>
        </p:xfrm>
        <a:graphic>
          <a:graphicData uri="http://schemas.openxmlformats.org/drawingml/2006/table">
            <a:tbl>
              <a:tblPr/>
              <a:tblGrid>
                <a:gridCol w="709560"/>
                <a:gridCol w="3949560"/>
                <a:gridCol w="3951360"/>
              </a:tblGrid>
              <a:tr h="106920"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项目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类和评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6920">
                <a:tc rowSpan="3"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大便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失禁；或无失禁，但有昏迷。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偶尔失禁（每周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≤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次），或需要在帮助下使用灌肠剂或栓剂，或需要器具帮助。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0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能控制；如果需要，能使用灌肠剂或栓剂。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 rowSpan="3"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小便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失禁；或需由他人导尿；或无失禁，但有昏迷。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偶尔失禁（每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4h≤1</a:t>
                      </a: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次，每周＞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次），或需要器具帮助。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0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能控制；如果需要，能使用集尿器或其它用具，并清洗。</a:t>
                      </a: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如无需帮助，自行导尿，并清洗导尿管，视为能控制。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 rowSpan="2"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修饰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（个人卫生）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依赖或需要帮助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2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自理：在提供器具的情况下，可独立完成洗脸、刷牙、梳头、剃须（如需用电则应会用插头）。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640">
                <a:tc rowSpan="3"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用厕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依赖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需部分帮助：指在穿脱衣裤，使用卫生纸擦净会阴，保持平衡或便后清洁时需要帮助。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2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0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自理：指能独立地进出厕所，使用厕所或便盆，并能穿脱衣裤、使用卫生纸，擦净会阴和冲洗排泄物，或倒掉并清洗便盆。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 rowSpan="3"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进食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依赖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需部分帮助：指能吃任何正常食物，但在切割、搅拌食物或夹菜、盛饭时需要帮助，或较长时间才能完成。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2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0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自理：指能使用任何必要的装置，在适当的时间内独立地完成包括夹菜、盛饭在内的进食过程。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640">
                <a:tc rowSpan="4"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转移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依赖：不能坐起，需两人以上帮助，或用提升机。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需大量帮助：能坐，需两个人或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个强壮且动作娴熟的人帮助。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0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需小量帮助：为保安全，需一人搀扶或语言指导、监督。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2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5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自理：指能独立地从床上转移到椅子上并返回。独立地从轮椅到床，再从床回到轮椅，包括从床上坐起，刹住轮椅，抬起脚踏板。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280">
                <a:tc rowSpan="4"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平地步行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依赖：不能步行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需大量帮助：如果不能行走，能使用轮椅行走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45</a:t>
                      </a: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米，并能向各方向移动以及进出厕所。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0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需小量帮助：指在一人帮助下行走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45</a:t>
                      </a: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米以上，帮助可以是体力或语言指导、监督。如坐轮椅，必须是无需帮助，能使用轮椅行走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45</a:t>
                      </a: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米以上，并能拐弯。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任何帮助都应由未经特殊训练者提供。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5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自理：指能在家中或病房周围水平路面上独自行走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45</a:t>
                      </a: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米以上，可以用辅助装置，但不包括带轮的助行器。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 rowSpan="3"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穿衣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依赖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需要帮助：指在适当的时间内至少做完一半的工作。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0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自理：指在无人指导的情况下能独立穿脱适合自己身体的各类衣裤，包括穿鞋、系鞋带、扣、解钮扣、开关拉链、穿脱矫形器和各类护具等。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 rowSpan="3"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上楼梯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依赖：不能上下楼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需要帮助：在体力帮助或语言指导、监督下上、下一层楼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0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自理（包括使用辅助器）：指能独立地上、下一层楼，可以使用扶手或用手杖、腋杖等辅助用具。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 rowSpan="2"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洗澡（池浴、盆浴或淋浴）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依赖或需要帮助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自理：指无需指导和他人帮助能安全进出浴池，并完成洗澡全过程。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8076960" cy="77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  <a:ea typeface="宋体"/>
              </a:rPr>
              <a:t>Barthel</a:t>
            </a: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指数判断标准 </a:t>
            </a: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24000" y="2133360"/>
            <a:ext cx="8610480" cy="36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60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分以上者为虽然有轻度残疾，但生活基本自理；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0~60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分者为中度残疾，生活需要帮助；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0~40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分者为重度残疾，生活需要很大帮助；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分以下者为完全残疾，生活完全依赖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11280" y="1052280"/>
            <a:ext cx="807696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  <a:ea typeface="宋体"/>
              </a:rPr>
              <a:t>FIM</a:t>
            </a: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评定</a:t>
            </a: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179280" y="2205000"/>
            <a:ext cx="896472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功能独立性评定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functional independence meassure)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包括六个方面共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8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项功能，即自理活动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项、括约肌控制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项、转移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项、行走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项、交流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项和社会认知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项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每项分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级，最高得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分，最低得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分，总分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26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分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11280" y="1125360"/>
            <a:ext cx="807696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功能活动问卷（</a:t>
            </a:r>
            <a:r>
              <a:rPr b="1" lang="en-US" sz="3200" spc="-1" strike="noStrike">
                <a:solidFill>
                  <a:srgbClr val="ff0000"/>
                </a:solidFill>
                <a:latin typeface="Verdana"/>
                <a:ea typeface="宋体"/>
              </a:rPr>
              <a:t>FAQ</a:t>
            </a: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160" y="1699920"/>
            <a:ext cx="792612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主要用于研究社区老年人的独立性和轻症老年性痴呆，包括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项内容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Guest2</cp:lastModifiedBy>
  <dcterms:modified xsi:type="dcterms:W3CDTF">2015-12-16T04:55:27Z</dcterms:modified>
  <cp:revision>95</cp:revision>
  <dc:subject/>
  <dc:title>内科护理学</dc:title>
</cp:coreProperties>
</file>